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014-5E81-4EAC-8D17-ADD3F743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1445-10EF-4291-8B68-383615AFD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5DE-92FA-455D-97DF-AE669F8FE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300-B5F8-4903-BDA6-7140605F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A84-2672-4B15-9EAE-FF61C05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DB9-CC8D-4D05-9F9B-D24230A2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4A3-A5E4-4DA4-8A5B-E0AB198E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DE9-97F6-4695-9CB7-5B920CB0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543-93F6-44DB-8D74-C4A1AC3B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ACA-313B-4F09-B704-21F10ED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34C-851B-40CC-9DC8-B00ACEB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1A7-2633-4875-B0DC-7BEEC02C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939-EBB4-4773-AF8F-DA7BE53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34C-65DE-4C9F-9732-AA8208D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49F-8993-4A7E-80F5-7750DB5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18E-8E7C-42EC-A477-A4568AE6C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734-B239-4AA5-90E3-D22F4D3A9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ymag.com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UTOMATIC ENERGY EFFICIENT EMERGENCY LAMP USING PULSE WIDTH MODUL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CB7-4D44-46D1-A4F4-2126A451C663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5F10-4993-4C81-B76A-BF31BB97BF3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380880" y="263520"/>
            <a:ext cx="86108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ircuit. Components are easily available and low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switches ON when the mains fails and turns OFF when mains power resumes. Also has its own battery charger which when fully charged stops charging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veni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our lives simpler , convenient to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onom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consumption is very less , proves to be more economic for the consu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light per watt than incandescent bu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emit of an intended color without use of color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/off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ght up very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yc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subjected to frequent on-off cyc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dimmed by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4D5-9359-4E98-AC39-153510EB94B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2B18-6207-4481-BAFD-EF639D6EB1A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76212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 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stly fail by dimming over time, rather than abrupt burn-out of incandescent bul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ng useful lif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Ds do not contain mercury, unlike fluorescent l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ly more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e depen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formance largely depends on the operating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lth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ol white LEDs can cause problems to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90A-1B7F-4517-8702-F4487733130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0880" y="5335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was concluded to be  innovative for the improvement of day today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lso adds a new look to the traditional l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WM helps us to reduce the wastage of energ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implementing this circuit is also very less - an added advantage in using this circu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183-F500-4118-94AD-669BB1D737A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gain modernize this project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expected that with additional development and growing researches, the PWM will gain more popularity and the cost of these bulbs will eventually dec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roject can be adopted for mass production as cheap and efficien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F2C2-BA74-4854-9AED-E73F650369E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FDC-D6F2-4D32-98C6-FFA890A79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FDE4-3011-4EA6-81B4-61E407433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My Documents\My Pictures\20100701\01072010116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akwad R.A.,OPAMPS &amp; Linear Integrated circuits, Prentice hall of In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 man J.,Microelectronics c Graw H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B Gupta.,Electronic devices and circuits, katson educational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efymag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wikipedia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0CF-2218-469C-ADA1-88E4AA2E686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TIVE STUDY OF CIRCUIT WITH AND WITHOUT PW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AND DISADVANTAGES OF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LED LAMPS WITH OTHER LIGHT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CB7-4355-443D-A5B8-488973B2ED81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ing demand for the saving of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in power supply causes difficulty and inconven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omatic emergency lamp that uses L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bright due to use of white LE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s on when mains supply fails ,turns off when power resu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own battery charger –stops  charging automatically when ful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ject aims to develop most power efficient and user friendly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02D-387E-4DF2-B132-0CEF82D913C1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ower consumption by using a low-cost, automatic white LED based emergency lamp using PW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F08-E736-44BD-9442-6358D1776A85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0BB3-E0F2-4E1D-8FEA-2B49244D4A63}" type="slidenum">
              <a:rPr b="1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53080" y="182880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44956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886200" y="4495680"/>
            <a:ext cx="19051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IDGE RECTIFIE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477120" y="4495680"/>
            <a:ext cx="18288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GULATION USING LM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838080" y="1828800"/>
            <a:ext cx="213372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962520" y="1828800"/>
            <a:ext cx="19047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WM USING ASTABLE OPERATION OF 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2"/>
          <p:cNvSpPr/>
          <p:nvPr/>
        </p:nvSpPr>
        <p:spPr>
          <a:xfrm>
            <a:off x="3124080" y="5029200"/>
            <a:ext cx="762120" cy="380880"/>
          </a:xfrm>
          <a:prstGeom prst="rightArrow">
            <a:avLst>
              <a:gd name="adj1" fmla="val 63796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3"/>
          <p:cNvSpPr/>
          <p:nvPr/>
        </p:nvSpPr>
        <p:spPr>
          <a:xfrm>
            <a:off x="5791320" y="5029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 Arrow 14"/>
          <p:cNvSpPr/>
          <p:nvPr/>
        </p:nvSpPr>
        <p:spPr>
          <a:xfrm>
            <a:off x="7162920" y="3200400"/>
            <a:ext cx="457200" cy="129528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eft Arrow 15"/>
          <p:cNvSpPr/>
          <p:nvPr/>
        </p:nvSpPr>
        <p:spPr>
          <a:xfrm>
            <a:off x="5867280" y="2362320"/>
            <a:ext cx="6858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Arrow 16"/>
          <p:cNvSpPr/>
          <p:nvPr/>
        </p:nvSpPr>
        <p:spPr>
          <a:xfrm>
            <a:off x="2971800" y="22860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A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26E-6466-4A28-8AC1-346323ABE475}" type="slidenum">
              <a:rPr b="1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kt 22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1" marL="12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rcuit has three section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r power supply section</a:t>
            </a:r>
            <a:r>
              <a:rPr b="0" lang="en-I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: steps down(9V,500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rectifier: rectifies transformer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317: voltage reg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: provides supply when mains f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6000" indent="-482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er diode: conducts when battery crosses its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08660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6705720" y="6248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0D6-FA1B-46BE-8683-3C65F30AA0E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4920" y="99072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 timer s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he LED section by PW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driver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round BD 1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white LEDs connected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section glows when mains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to blink using astable operation of 5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fulltime ON due to persistence of 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out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76920" y="3962520"/>
          <a:ext cx="3733560" cy="2590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LED = 2.74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LED = 2.5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6.85 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822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23920" y="609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rcuit with pw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2" descr="ckt 22.png"/>
          <p:cNvPicPr/>
          <p:nvPr/>
        </p:nvPicPr>
        <p:blipFill>
          <a:blip r:embed="rId1"/>
          <a:stretch/>
        </p:blipFill>
        <p:spPr>
          <a:xfrm>
            <a:off x="4800600" y="1371600"/>
            <a:ext cx="3886200" cy="23623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2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3D0-BB8B-46D5-BDA2-CD407E27061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led-emergency.jpg"/>
          <p:cNvPicPr/>
          <p:nvPr/>
        </p:nvPicPr>
        <p:blipFill>
          <a:blip r:embed="rId2"/>
          <a:stretch/>
        </p:blipFill>
        <p:spPr>
          <a:xfrm>
            <a:off x="3049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3962520"/>
          <a:ext cx="3981600" cy="261144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cross each  LED  = 2.96 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through each  LED  = 2.7 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consumed by each LED = 7.992m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ower consumed by LED array = .095904 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1:15:37Z</dcterms:created>
  <dc:creator/>
  <dc:description>Electrical Projects</dc:description>
  <dc:language>en-US</dc:language>
  <cp:lastModifiedBy>Brigade</cp:lastModifiedBy>
  <dcterms:modified xsi:type="dcterms:W3CDTF">2011-08-24T20:07:47Z</dcterms:modified>
  <cp:revision>0</cp:revision>
  <dc:subject>Electrical Projects</dc:subject>
  <dc:title>EEE IEEE Projects</dc:title>
</cp:coreProperties>
</file>